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6bf69"/>
                </a:solidFill>
                <a:latin typeface="Arial"/>
                <a:ea typeface="Arial"/>
              </a:rPr>
              <a:t>Conjuntos SunPC</a:t>
            </a:r>
            <a:r>
              <a:rPr b="0" lang="en-US" sz="4800" spc="-1" strike="noStrike" baseline="30000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4800" spc="-1" strike="noStrike">
                <a:solidFill>
                  <a:srgbClr val="f6bf69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i="1" lang="en-US" sz="2800" spc="-1" strike="noStrike">
                <a:solidFill>
                  <a:srgbClr val="f6bf69"/>
                </a:solidFill>
                <a:latin typeface="Arial"/>
                <a:ea typeface="Arial"/>
              </a:rPr>
              <a:t>Ejecute sus aplicaciones MS-DOS en SPARC</a:t>
            </a:r>
            <a:r>
              <a:rPr b="0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04920" y="1752480"/>
            <a:ext cx="46227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el conjunto hardware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SunPC, los usuarios de SPARC obtienen la solución má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ápi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ejecutar aplicaciones 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 conjuntos SunPC admiten más aplicaciones para Microsoft Windows que las certificadas para el software Wab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 4.1 admite los protocolos de red para PC más conocidos, incluido TCP/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1752480"/>
            <a:ext cx="385452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OTA: </a:t>
            </a:r>
            <a:r>
              <a:rPr b="0" i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unPC sólo está disponible en inglés, pero admite versiones localizadas de MS-DOS, Microsoft Windows y de aplicaciones para estos entornos.</a:t>
            </a: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ara más informació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SunPC, llame al 512/434-1511, Prompt #1, o acceda a nuestra dirección de World Wide Web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un.com/sunsoft/Products/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5094360"/>
            <a:ext cx="36511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ara información sobre la compra d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, llame al 521/434-1511, Prompt #2, o póngase en contacto con su distribuidor Sun más cerc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