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48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48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8852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5392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3636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4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5392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3636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48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48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48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8852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48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4280" y="0"/>
            <a:ext cx="9131760" cy="6845760"/>
            <a:chOff x="31428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70240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428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0000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Merge</a:t>
            </a:r>
            <a:r>
              <a:rPr b="0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für das Betriebssystem Solaris</a:t>
            </a:r>
            <a:r>
              <a:rPr b="0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x86 </a:t>
            </a:r>
            <a:br>
              <a:rPr sz="1800"/>
            </a:br>
            <a:r>
              <a:rPr b="0" i="1" lang="en-US" sz="2200" spc="-1" strike="noStrike">
                <a:solidFill>
                  <a:srgbClr val="f6bf69"/>
                </a:solidFill>
                <a:latin typeface="Arial"/>
                <a:ea typeface="Arial"/>
              </a:rPr>
              <a:t>Nutzen Sie Ihre MS-DOS-Anwendungen auf Intel-Syste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95160" y="1295280"/>
            <a:ext cx="8534520" cy="5029200"/>
            <a:chOff x="695160" y="1295280"/>
            <a:chExt cx="8534520" cy="5029200"/>
          </a:xfrm>
        </p:grpSpPr>
        <p:sp>
          <p:nvSpPr>
            <p:cNvPr id="41" name=""/>
            <p:cNvSpPr txBox="1"/>
            <p:nvPr/>
          </p:nvSpPr>
          <p:spPr>
            <a:xfrm>
              <a:off x="695160" y="1295280"/>
              <a:ext cx="457200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559"/>
                </a:spcBef>
                <a:buClr>
                  <a:srgbClr val="fafd00"/>
                </a:buClr>
                <a:buSzPct val="75000"/>
                <a:buFont typeface="Wingdings"/>
                <a:buChar char=""/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urch „Merge“ für das Betriebssystem Solaris x86 können Sie von der Leistungsfähigkeit zweier Betriebssysteme profitieren –   MS-DOS und Solari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59"/>
                </a:spcBef>
                <a:buClr>
                  <a:srgbClr val="fafd00"/>
                </a:buClr>
                <a:buSzPct val="75000"/>
                <a:buFont typeface="Wingdings"/>
                <a:buChar char=""/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Über „Merge“ können Anwender von  Solaris x86 Tausende von Standard-MS-DOS-Anwendungen nutze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59"/>
                </a:spcBef>
                <a:buClr>
                  <a:srgbClr val="fafd00"/>
                </a:buClr>
                <a:buSzPct val="75000"/>
                <a:buFont typeface="Wingdings"/>
                <a:buChar char=""/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„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erge“ unterstützt auch Microsoft Windows-Anwendungen, die nicht in der Liste der von Wabi™ unterstützten Anwendungen enthalten sind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 txBox="1"/>
            <p:nvPr/>
          </p:nvSpPr>
          <p:spPr>
            <a:xfrm>
              <a:off x="5495760" y="1297080"/>
              <a:ext cx="3733920" cy="307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1" i="1" lang="en-US" sz="2000" spc="-1" strike="noStrike">
                  <a:solidFill>
                    <a:srgbClr val="f6bf69"/>
                  </a:solidFill>
                  <a:latin typeface="Times New Roman"/>
                  <a:ea typeface="Times New Roman"/>
                </a:rPr>
                <a:t>Weitere Informationen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u Merge oder anderen SunSoft-Produkten erhalten Sie unter 512/434-1511 Drücken Sie die „1“.  Sie können auch unsere Homepage im World Wide Web nutzen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://www.sun.com/sunsoft/Products/PC-Integration-produ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" name=""/>
          <p:cNvSpPr txBox="1"/>
          <p:nvPr/>
        </p:nvSpPr>
        <p:spPr>
          <a:xfrm>
            <a:off x="5495760" y="4191120"/>
            <a:ext cx="3733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Zum Kauf von Merge </a:t>
            </a:r>
            <a:r>
              <a:rPr b="0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fen Sie 512/434-1511 an. Drücken Sie die „2“. Sie können sich auch an Ihren Sun-Händler we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