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cccc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onjuntos SunPC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jecute sus aplicaciones MS-DOS en SPAR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04920" y="1752480"/>
            <a:ext cx="462276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l conjunto hardware/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SunPC, los usuarios de SPARC obtienen la solución má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ápi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 ejecutar aplicaciones MS-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 conjuntos SunPC admiten más aplicaciones para Microsoft Windows que las certificadas para el software Wab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nPC 4.1 admite los protocolos de red para PC más conocidos, incluido TCP/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5181480" y="1752480"/>
            <a:ext cx="3854520" cy="36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nPC sólo está disponible en inglés, pero admite versiones localizadas de MS-DOS, Microsoft Windows y de aplicaciones para estos entornos.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más informació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bre SunPC, llame al 512/434-1511, Prompt #1, o acceda a nuestra dirección de World Wide Web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sun.com/sunsoft/Products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-Integration-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181480" y="5094360"/>
            <a:ext cx="365112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información sobre la compra 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nPC, llame al 521/434-1511, Prompt #2, o póngase en contacto con su distribuidor Sun más cerc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